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8F83-B315-4981-9B53-1BA135698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1C0A-0987-47FE-8D57-F61E01C75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A457-2779-43DA-B8EF-3223449AF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0F92-D586-465D-9161-83A413D56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1F3F-5616-4E33-B1A0-A2376BE86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0E72-DCF4-434F-9FCD-D5FA0E2CE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408F-9518-4296-967C-313E1CD1D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AC5F-5673-4E52-A832-38CB9097D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E079-C0E5-41F5-9AC7-EF7516531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5C8A-12CD-4B9C-9BB0-711E1AFE1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E5A5-9C69-4462-9B01-D64476EE9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6631-28CC-47B0-8F68-9DAD7A9F3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F76011F-2138-48A3-9659-471B364B6FE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7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12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0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0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1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1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7 X 7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7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7 X 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7 X 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3-19T11:57:14Z</dcterms:modified>
  <cp:revision>1</cp:revision>
  <dc:subject/>
  <dc:title/>
</cp:coreProperties>
</file>